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0A4-33D4-4BB3-9DF6-A90AA75A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C2B-2275-4D7E-85BF-398EC5D5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EC5-BDB0-417E-9945-B92BFFDA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8EA-BC6E-4A9A-83C0-21540684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7C3-2A02-48FE-B129-1934CE11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233-390B-4A55-BDD4-3F2DAF0A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233-F56C-4C7A-B160-A2462B57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5BF-F88E-4761-8282-4550477D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6BA-D6ED-4648-A54C-7A62FE3D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D94-F788-43AE-A75D-5A98AC4C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58E-B738-402B-A897-CFECEB09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002-5FDB-494D-AEDB-FC6E7524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DE10-7EEC-4688-BA04-7C7AC0104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ÇOCUKLAR 23 NİSAN YAKLAŞIYOR,23 NİSANIN NE DEMEK OLDUĞUNU BİLEN VAR MI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78080" y="1600200"/>
            <a:ext cx="458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3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476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49672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19320" y="1643040"/>
            <a:ext cx="4905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23 NİSANDA BÜTÜN DÜNYADAN ÇOCUKLA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6640" y="1600200"/>
            <a:ext cx="801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Comic Sans MS"/>
              </a:rPr>
              <a:t>ÜLKEMİZE GELİRLER VE BİZİMLE BİRLİKTE ATAMIZA TEŞEKKÜR EDER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532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BU MUTLU GÜNÜMÜZDE DANS EDER,BAYRAMIMIZI KUTLA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HAYDİ ÇOCUKLAR GELİYOR 23 NİSAN BU GÜN SİZİN BAYRAMINIZ,MUTLU OLUN,SEVİNÇLE KUTLAYIN,ÜZÜLMESİN ATAM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657440"/>
            <a:ext cx="53337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619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EVEET BİLDİNİZ 23 NİSAN SİZİN BAYRAMINIZ YANİ ÇOCUK BAYR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62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TÜM ÇOCUKLAR ELELE YÜRÜYELİM GELECEĞ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329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PEKİİİ 23 NİSAN ÇOCUK BAYRAMINI SİZLERE KİM ARMAĞAN ETTİ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EVEEET BİLDİNİZ BÜYÜK ÖNDERİMİZ MUSTAFA KEMAL ATATÜRK ARMAĞAN ETT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440" y="1600200"/>
            <a:ext cx="555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ATATÜRK SİZ ÇOCUKLARI ÇOK SEVERD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12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İZLERİN MUTLU OLMASINI İSTED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61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ER YIL 23 NİSAN D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121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BİZ DE ATAMIZA TEŞEKKÜR EDERİ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5905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mic Sans MS"/>
              </a:rPr>
              <a:t>ŞİMDİ ATAMIZIN ÇOCUKLARI</a:t>
            </a:r>
            <a:br>
              <a:rPr sz="2400"/>
            </a:br>
            <a:r>
              <a:rPr b="1" lang="en-US" sz="2400" spc="-1" strike="noStrike">
                <a:solidFill>
                  <a:srgbClr val="003300"/>
                </a:solidFill>
                <a:latin typeface="Comic Sans MS"/>
              </a:rPr>
              <a:t>NASIL ÇOK SEVDİĞİNİ GÖRELİ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14680" y="1747800"/>
            <a:ext cx="57150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8:55:02Z</dcterms:created>
  <dc:creator>PERFECT PC1</dc:creator>
  <dc:description/>
  <dc:language>en-US</dc:language>
  <cp:lastModifiedBy>PERFECT PC1</cp:lastModifiedBy>
  <dcterms:modified xsi:type="dcterms:W3CDTF">2010-04-19T19:31:56Z</dcterms:modified>
  <cp:revision>2</cp:revision>
  <dc:subject/>
  <dc:title>ÇOCUKLAR 23 NİSAN YAKLAŞIYOR,23 NİSANIN NE DEMEK OLDUĞUNU BİLEN VAR MI??</dc:title>
</cp:coreProperties>
</file>