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17.gif" ContentType="image/gif"/>
  <Override PartName="/ppt/media/camera.wav" ContentType="audio/x-wav"/>
  <Override PartName="/ppt/media/image3.jpeg" ContentType="image/jpeg"/>
  <Override PartName="/ppt/media/image12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32.wmf" ContentType="image/x-wmf"/>
  <Override PartName="/ppt/media/image33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43.wmf" ContentType="image/x-wmf"/>
  <Override PartName="/ppt/media/image39.jpeg" ContentType="image/jpeg"/>
  <Override PartName="/ppt/media/image8.jpeg" ContentType="image/jpeg"/>
  <Override PartName="/ppt/media/image5.jpeg" ContentType="image/jpeg"/>
  <Override PartName="/ppt/media/image2.jpeg" ContentType="image/jpeg"/>
  <Override PartName="/ppt/media/image4.wmf" ContentType="image/x-wmf"/>
  <Override PartName="/ppt/media/image34.wmf" ContentType="image/x-wmf"/>
  <Override PartName="/ppt/media/image1.jpeg" ContentType="image/jpeg"/>
  <Override PartName="/ppt/media/image28.jpeg" ContentType="image/jpeg"/>
  <Override PartName="/ppt/media/image23.wmf" ContentType="image/x-wmf"/>
  <Override PartName="/ppt/media/image27.gif" ContentType="image/gif"/>
  <Override PartName="/ppt/media/image22.jpeg" ContentType="image/jpeg"/>
  <Override PartName="/ppt/media/image42.wmf" ContentType="image/x-wmf"/>
  <Override PartName="/ppt/media/image10.wmf" ContentType="image/x-wmf"/>
  <Override PartName="/ppt/media/image2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883-129F-4540-9628-9F4CA9E3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5A6-2911-4E48-8718-0ED583EA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13B-F157-462E-828D-1FEAE035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23F-D5FE-4AA5-AB83-E381A2ED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D1E-CBAE-4639-89B6-A90C1F4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87B-3DFE-4F26-AC9F-35689D7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CC5-8B02-47C8-8F0A-35982DFB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CBA-7B8D-44AA-BB82-81F36027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E6E-45FC-4620-9444-6AED68AB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6D4-5D51-4EF8-9434-5D784B26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EA8-6F38-4E7A-9965-22F8A33D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077-A93F-47AE-8EDB-CE43A72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6689-5CE4-49CD-93E9-9CA352136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9000"/>
            <a:ext cx="68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6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2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4869000"/>
            <a:ext cx="6624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nd writing Mutlu"/>
              </a:rPr>
              <a:t>Hazırlayan;M.K.Cey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nd writing Mutlu"/>
              </a:rPr>
              <a:t>Güngören 75.Yıl İ.Ö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51640" y="3630600"/>
            <a:ext cx="349236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b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2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eb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b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3" dur="indefinite" restart="never" nodeType="tmRoot">
          <p:childTnLst>
            <p:seq>
              <p:cTn id="2924" dur="indefinite" nodeType="mainSeq">
                <p:childTnLst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eb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b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58920" y="5300640"/>
            <a:ext cx="7200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Emel ebe o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b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84720" y="1341360"/>
            <a:ext cx="388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bab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b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5280" y="5373720"/>
            <a:ext cx="8280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Babam bal aldı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5" dur="indefinite" restart="never" nodeType="tmRoot">
          <p:childTnLst>
            <p:seq>
              <p:cTn id="2986" dur="indefinite" nodeType="mainSeq">
                <p:childTnLst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987640" y="1700280"/>
            <a:ext cx="100800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528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ba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95640" y="1341360"/>
            <a:ext cx="496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bayra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ra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9280" y="5300640"/>
            <a:ext cx="882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Baba bayrak as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8" dur="indefinite" restart="never" nodeType="tmRoot">
          <p:childTnLst>
            <p:seq>
              <p:cTn id="3019" dur="indefinite" nodeType="mainSeq">
                <p:childTnLst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fill="hold">
                      <p:stCondLst>
                        <p:cond delay="indefinite"/>
                      </p:stCondLst>
                      <p:childTnLst>
                        <p:par>
                          <p:cTn id="3045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0920" y="333360"/>
            <a:ext cx="2305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b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1341360"/>
            <a:ext cx="4319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b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9640" y="5373720"/>
            <a:ext cx="8425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Baba ablama ba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9" dur="indefinite" restart="never" nodeType="tmRoot">
          <p:childTnLst>
            <p:seq>
              <p:cTn id="3060" dur="indefinite" nodeType="mainSeq">
                <p:childTnLst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ü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7" dur="indefinite" restart="never" nodeType="tmRoot">
          <p:childTnLst>
            <p:seq>
              <p:cTn id="3098" dur="indefinite" nodeType="mainSeq">
                <p:childTnLst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3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4" dur="indefinite" restart="never" nodeType="tmRoot">
          <p:childTnLst>
            <p:seq>
              <p:cTn id="3105" dur="indefinite" nodeType="mainSeq">
                <p:childTnLst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78200" y="1341360"/>
            <a:ext cx="3025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t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280" y="2708280"/>
            <a:ext cx="201600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t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58920" y="5445000"/>
            <a:ext cx="720072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Abla ütü a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fill="hold">
                      <p:stCondLst>
                        <p:cond delay="indefinite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276720" y="1484280"/>
            <a:ext cx="1224000" cy="7938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348000" y="2491920"/>
            <a:ext cx="1152720" cy="863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8360" y="189000"/>
            <a:ext cx="2519280" cy="230328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Ü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88000" y="907920"/>
            <a:ext cx="4105080" cy="24498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lk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8360" y="2708280"/>
            <a:ext cx="2879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5445000"/>
            <a:ext cx="8064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Ülkü balık ye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330372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97360"/>
            <a:ext cx="252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ta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186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05928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13200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8360" y="189000"/>
            <a:ext cx="2374920" cy="2232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s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43280" y="1341360"/>
            <a:ext cx="4249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nd writing Mutlu"/>
              </a:rPr>
              <a:t>sü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5280" y="2708280"/>
            <a:ext cx="2808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58920" y="5157720"/>
            <a:ext cx="7200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Ülkü süt a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5" dur="indefinite" restart="never" nodeType="tmRoot">
          <p:childTnLst>
            <p:seq>
              <p:cTn id="3206" dur="indefinite" nodeType="mainSeq">
                <p:childTnLst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84328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3059280" y="2349360"/>
            <a:ext cx="122364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400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b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425840" y="1341360"/>
            <a:ext cx="44672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büyü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2708280"/>
            <a:ext cx="2808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ü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544500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Ali büyük balık yakala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4672080" cy="15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ş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5" dur="indefinite" restart="never" nodeType="tmRoot">
          <p:childTnLst>
            <p:seq>
              <p:cTn id="3276" dur="indefinite" nodeType="mainSeq">
                <p:childTnLst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1" dur="2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1332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2" dur="indefinite" restart="never" nodeType="tmRoot">
          <p:childTnLst>
            <p:seq>
              <p:cTn id="3283" dur="indefinite" nodeType="mainSeq">
                <p:childTnLst>
                  <p:par>
                    <p:cTn id="3284" fill="hold">
                      <p:stCondLst>
                        <p:cond delay="indefinite"/>
                      </p:stCondLst>
                      <p:childTnLst>
                        <p:par>
                          <p:cTn id="3285" fill="hold">
                            <p:stCondLst>
                              <p:cond delay="0"/>
                            </p:stCondLst>
                            <p:childTnLst>
                              <p:par>
                                <p:cTn id="3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30589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1" dur="indefinite" restart="never" nodeType="tmRoot">
          <p:childTnLst>
            <p:seq>
              <p:cTn id="3312" dur="indefinite" nodeType="mainSeq">
                <p:childTnLst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fill="hold">
                      <p:stCondLst>
                        <p:cond delay="indefinite"/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84720" y="1341360"/>
            <a:ext cx="388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ş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ş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5373720"/>
            <a:ext cx="8280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Ömer aşı oldu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5112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9" dur="indefinite" restart="never" nodeType="tmRoot">
          <p:childTnLst>
            <p:seq>
              <p:cTn id="3340" dur="indefinite" nodeType="mainSeq">
                <p:childTnLst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6" fill="hold">
                      <p:stCondLst>
                        <p:cond delay="indefinite"/>
                      </p:stCondLst>
                      <p:childTnLst>
                        <p:par>
                          <p:cTn id="3347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fill="hold">
                      <p:stCondLst>
                        <p:cond delay="indefinite"/>
                      </p:stCondLst>
                      <p:childTnLst>
                        <p:par>
                          <p:cTn id="3357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700280"/>
            <a:ext cx="100800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ş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5640" y="1341360"/>
            <a:ext cx="496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Şeym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m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79280" y="5300640"/>
            <a:ext cx="676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Şeyma şişe kırdı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52576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2" dur="indefinite" restart="never" nodeType="tmRoot">
          <p:childTnLst>
            <p:seq>
              <p:cTn id="3373" dur="indefinite" nodeType="mainSeq">
                <p:childTnLst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8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9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0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843280" y="1557360"/>
            <a:ext cx="115236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ş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067280" y="1125360"/>
            <a:ext cx="4319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şark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9640" y="5373720"/>
            <a:ext cx="6696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Şule şarkı söy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7308720" y="3208320"/>
            <a:ext cx="172404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5" dur="indefinite" restart="never" nodeType="tmRoot">
          <p:childTnLst>
            <p:seq>
              <p:cTn id="3416" dur="indefinite" nodeType="mainSeq">
                <p:childTnLst>
                  <p:par>
                    <p:cTn id="3417" fill="hold">
                      <p:stCondLst>
                        <p:cond delay="indefinite"/>
                      </p:stCondLst>
                      <p:childTnLst>
                        <p:par>
                          <p:cTn id="3418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6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z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0" dur="indefinite" restart="never" nodeType="tmRoot">
          <p:childTnLst>
            <p:seq>
              <p:cTn id="3451" dur="indefinite" nodeType="mainSeq">
                <p:childTnLst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6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5480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7" dur="indefinite" restart="never" nodeType="tmRoot">
          <p:childTnLst>
            <p:seq>
              <p:cTn id="3458" dur="indefinite" nodeType="mainSeq">
                <p:childTnLst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5373720"/>
            <a:ext cx="5040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et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0956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z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z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7164360" y="3500280"/>
            <a:ext cx="1695600" cy="25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z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1341360"/>
            <a:ext cx="388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z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5280" y="5373720"/>
            <a:ext cx="6769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Ömer zile bak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93000" y="3859200"/>
            <a:ext cx="197172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4" dur="indefinite" restart="never" nodeType="tmRoot">
          <p:childTnLst>
            <p:seq>
              <p:cTn id="3515" dur="indefinite" nodeType="mainSeq">
                <p:childTnLst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fill="hold">
                      <p:stCondLst>
                        <p:cond delay="indefinite"/>
                      </p:stCondLst>
                      <p:childTnLst>
                        <p:par>
                          <p:cTn id="3532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987640" y="1700280"/>
            <a:ext cx="100800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9528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z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95640" y="1341360"/>
            <a:ext cx="496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Zeli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i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9280" y="5545080"/>
            <a:ext cx="78487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0" spc="-1" strike="noStrike">
                <a:solidFill>
                  <a:srgbClr val="000000"/>
                </a:solidFill>
                <a:latin typeface="Hand writing Mutlu"/>
              </a:rPr>
              <a:t>Zeliş üzüm yedi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3203640" cy="20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7" dur="indefinite" restart="never" nodeType="tmRoot">
          <p:childTnLst>
            <p:seq>
              <p:cTn id="3548" dur="indefinite" nodeType="mainSeq">
                <p:childTnLst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2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6" dur="77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7" dur="770" fill="hold"/>
                                        <p:tgtEl>
                                          <p:spTgt spid="6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9" dur="77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1" dur="77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843280" y="1557360"/>
            <a:ext cx="115236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092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1341360"/>
            <a:ext cx="2663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ı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373720"/>
            <a:ext cx="8425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Ablamın kızı oldu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7308720" y="2708280"/>
            <a:ext cx="16131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3" dur="indefinite" restart="never" nodeType="tmRoot">
          <p:childTnLst>
            <p:seq>
              <p:cTn id="3594" dur="indefinite" nodeType="mainSeq">
                <p:childTnLst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0" fill="hold">
                      <p:stCondLst>
                        <p:cond delay="indefinite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fill="hold">
                      <p:stCondLst>
                        <p:cond delay="indefinite"/>
                      </p:stCondLst>
                      <p:childTnLst>
                        <p:par>
                          <p:cTn id="3611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ç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6" dur="indefinite" restart="never" nodeType="tmRoot">
          <p:childTnLst>
            <p:seq>
              <p:cTn id="3627" dur="indefinite" nodeType="mainSeq">
                <p:childTnLst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2" dur="2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15772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Hand writing Mutlu"/>
              </a:rPr>
              <a:t>Zeki limon suyu iç.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6329520" y="2276640"/>
            <a:ext cx="28144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3" dur="indefinite" restart="never" nodeType="tmRoot">
          <p:childTnLst>
            <p:seq>
              <p:cTn id="3634" dur="indefinite" nodeType="mainSeq">
                <p:childTnLst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2" fill="hold">
                      <p:stCondLst>
                        <p:cond delay="indefinite"/>
                      </p:stCondLst>
                      <p:childTnLst>
                        <p:par>
                          <p:cTn id="3663" fill="hold">
                            <p:stCondLst>
                              <p:cond delay="0"/>
                            </p:stCondLst>
                            <p:childTnLst>
                              <p:par>
                                <p:cTn id="3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ç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ç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521080" cy="23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9" dur="indefinite" restart="never" nodeType="tmRoot">
          <p:childTnLst>
            <p:seq>
              <p:cTn id="3670" dur="indefinite" nodeType="mainSeq">
                <p:childTnLst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ç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1341360"/>
            <a:ext cx="388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çı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5280" y="5373720"/>
            <a:ext cx="8280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Şeyma dışarı çık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7" dur="indefinite" restart="never" nodeType="tmRoot">
          <p:childTnLst>
            <p:seq>
              <p:cTn id="3698" dur="indefinite" nodeType="mainSeq">
                <p:childTnLst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987640" y="1700280"/>
            <a:ext cx="100800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ç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95640" y="1341360"/>
            <a:ext cx="496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Çet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79280" y="5300640"/>
            <a:ext cx="676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Çetin çiçek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6588000" y="3932280"/>
            <a:ext cx="24116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0" dur="indefinite" restart="never" nodeType="tmRoot">
          <p:childTnLst>
            <p:seq>
              <p:cTn id="3731" dur="indefinite" nodeType="mainSeq">
                <p:childTnLst>
                  <p:par>
                    <p:cTn id="3732" fill="hold">
                      <p:stCondLst>
                        <p:cond delay="indefinite"/>
                      </p:stCondLst>
                      <p:childTnLst>
                        <p:par>
                          <p:cTn id="3733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4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5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6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843280" y="1557360"/>
            <a:ext cx="115236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84720" y="1341360"/>
            <a:ext cx="2663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ü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ç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373720"/>
            <a:ext cx="8425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Ali üç çilek a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1125360"/>
            <a:ext cx="1800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and writing Mutlu"/>
              </a:rPr>
              <a:t>3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3" dur="indefinite" restart="never" nodeType="tmRoot">
          <p:childTnLst>
            <p:seq>
              <p:cTn id="3774" dur="indefinite" nodeType="mainSeq">
                <p:childTnLst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4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fill="hold">
                      <p:stCondLst>
                        <p:cond delay="indefinite"/>
                      </p:stCondLst>
                      <p:childTnLst>
                        <p:par>
                          <p:cTn id="3791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0560" y="3716280"/>
            <a:ext cx="3854520" cy="2629080"/>
          </a:xfrm>
          <a:custGeom>
            <a:avLst/>
            <a:gdLst/>
            <a:ahLst/>
            <a:rect l="l" t="t" r="r" b="b"/>
            <a:pathLst>
              <a:path w="2428" h="1656">
                <a:moveTo>
                  <a:pt x="2428" y="0"/>
                </a:moveTo>
                <a:cubicBezTo>
                  <a:pt x="2178" y="389"/>
                  <a:pt x="1929" y="779"/>
                  <a:pt x="1793" y="862"/>
                </a:cubicBezTo>
                <a:cubicBezTo>
                  <a:pt x="1657" y="945"/>
                  <a:pt x="1656" y="567"/>
                  <a:pt x="1611" y="499"/>
                </a:cubicBezTo>
                <a:cubicBezTo>
                  <a:pt x="1566" y="431"/>
                  <a:pt x="1641" y="401"/>
                  <a:pt x="1520" y="454"/>
                </a:cubicBezTo>
                <a:cubicBezTo>
                  <a:pt x="1399" y="507"/>
                  <a:pt x="1134" y="749"/>
                  <a:pt x="885" y="817"/>
                </a:cubicBezTo>
                <a:cubicBezTo>
                  <a:pt x="636" y="885"/>
                  <a:pt x="46" y="741"/>
                  <a:pt x="23" y="862"/>
                </a:cubicBezTo>
                <a:cubicBezTo>
                  <a:pt x="0" y="983"/>
                  <a:pt x="537" y="1430"/>
                  <a:pt x="749" y="1543"/>
                </a:cubicBezTo>
                <a:cubicBezTo>
                  <a:pt x="961" y="1656"/>
                  <a:pt x="1127" y="1599"/>
                  <a:pt x="1294" y="154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4000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34000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a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48420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lale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2170080" cy="28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341360"/>
            <a:ext cx="3527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a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8420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Lale el ele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843280" y="2637000"/>
            <a:ext cx="1152360" cy="8632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3959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al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08280"/>
            <a:ext cx="223200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5300640"/>
            <a:ext cx="590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Talat alet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49408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341360"/>
            <a:ext cx="3095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229360"/>
            <a:ext cx="835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ile Ali el ele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1341360"/>
            <a:ext cx="3095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8420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elli    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148360" y="5157720"/>
            <a:ext cx="1439640" cy="13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5229360"/>
            <a:ext cx="835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elli    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76280"/>
            <a:ext cx="8351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ile Ali el ele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989000"/>
            <a:ext cx="835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Lale alet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500280"/>
            <a:ext cx="835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atlet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859280" y="4869000"/>
            <a:ext cx="15717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0920" y="1484280"/>
            <a:ext cx="136872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2400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1341360"/>
            <a:ext cx="352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n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0" y="5229360"/>
            <a:ext cx="59770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and writing Mutlu"/>
              </a:rPr>
              <a:t>Ali ile anne el el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020000" y="2887560"/>
            <a:ext cx="2101680" cy="392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050920" y="1484280"/>
            <a:ext cx="136872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0920" y="2637000"/>
            <a:ext cx="136872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n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1341360"/>
            <a:ext cx="295272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i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229360"/>
            <a:ext cx="856944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Hand writing Mutlu"/>
              </a:rPr>
              <a:t>Nine, tane tane anlat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267804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1341360"/>
            <a:ext cx="316692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5373720"/>
            <a:ext cx="7201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Nil nane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36000" y="3716280"/>
            <a:ext cx="13665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78200" y="1341360"/>
            <a:ext cx="18734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279900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5229360"/>
            <a:ext cx="835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nane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476280"/>
            <a:ext cx="8351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eline tel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989000"/>
            <a:ext cx="835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Hand writing Mutlu"/>
              </a:rPr>
              <a:t>Nalan elli tane lale a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500280"/>
            <a:ext cx="835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nlat nine anlat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484200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Ali on tane nane a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60280"/>
            <a:ext cx="2808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500" spc="-1" strike="noStrike">
                <a:solidFill>
                  <a:srgbClr val="000000"/>
                </a:solidFill>
                <a:latin typeface="Hand writing Mutlu"/>
              </a:rPr>
              <a:t>10</a:t>
            </a: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78200" y="1341360"/>
            <a:ext cx="28814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708280"/>
            <a:ext cx="201600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5300640"/>
            <a:ext cx="84247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Nalan ona    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1732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0920" y="1123920"/>
            <a:ext cx="136872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50920" y="2276640"/>
            <a:ext cx="136872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90440"/>
            <a:ext cx="1871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98100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565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5445000"/>
            <a:ext cx="7201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Talat ata ot at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42480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93800" y="981000"/>
            <a:ext cx="144000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66880" y="2133360"/>
            <a:ext cx="1366920" cy="647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520" y="117360"/>
            <a:ext cx="1511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981000"/>
            <a:ext cx="2881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t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520" y="2492280"/>
            <a:ext cx="1584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t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0" y="5734080"/>
            <a:ext cx="54007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oto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0" y="3141720"/>
            <a:ext cx="449892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78200" y="1341360"/>
            <a:ext cx="3241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l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708280"/>
            <a:ext cx="1873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5157720"/>
            <a:ext cx="5976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olta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12000" y="3573360"/>
            <a:ext cx="313200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1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5589720"/>
            <a:ext cx="5292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er o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7000" y="3664080"/>
            <a:ext cx="380700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1341360"/>
            <a:ext cx="230652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16720" y="4232160"/>
            <a:ext cx="352728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8920" y="48420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nar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87640" y="2637000"/>
            <a:ext cx="100800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4720" y="1341360"/>
            <a:ext cx="3959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an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2708280"/>
            <a:ext cx="2447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n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5229360"/>
            <a:ext cx="78850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Taner eline et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5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908000" y="1341360"/>
            <a:ext cx="1368720" cy="8654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08000" y="2494080"/>
            <a:ext cx="136872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8000" y="190440"/>
            <a:ext cx="1871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1198440"/>
            <a:ext cx="295272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i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8000" y="2565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516640"/>
            <a:ext cx="720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Narlar on lira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990880" cy="24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m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168720" cy="27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3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m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m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84720" y="1341360"/>
            <a:ext cx="3024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o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20" y="5373720"/>
            <a:ext cx="72738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mor lale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308720" y="3357720"/>
            <a:ext cx="169704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4720" y="1341360"/>
            <a:ext cx="4248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i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5516640"/>
            <a:ext cx="7991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Mine elli nar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987640" y="2637000"/>
            <a:ext cx="100800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4720" y="1341360"/>
            <a:ext cx="4319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em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229360"/>
            <a:ext cx="78850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Temel limon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84720" y="1341360"/>
            <a:ext cx="3527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i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5516640"/>
            <a:ext cx="720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Narlar on lira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9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5157720"/>
            <a:ext cx="8280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Emel un a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78200" y="1341360"/>
            <a:ext cx="3025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n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2708280"/>
            <a:ext cx="201600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76720" y="1484280"/>
            <a:ext cx="1224000" cy="7938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48000" y="2491920"/>
            <a:ext cx="1152720" cy="863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333360"/>
            <a:ext cx="2519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341360"/>
            <a:ext cx="388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mu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2708280"/>
            <a:ext cx="2879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u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5445000"/>
            <a:ext cx="8064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Umut onu unut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5928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3200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333360"/>
            <a:ext cx="23749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43280" y="1341360"/>
            <a:ext cx="4249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nd writing Mutlu"/>
              </a:rPr>
              <a:t>Mur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2708280"/>
            <a:ext cx="2519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r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5157720"/>
            <a:ext cx="7200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Murat mutlu o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u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78200" y="1341360"/>
            <a:ext cx="3241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l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2708280"/>
            <a:ext cx="1873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k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2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k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48420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Umut      oku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27640" y="2276640"/>
            <a:ext cx="268308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84720" y="1341360"/>
            <a:ext cx="3024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e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484200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Murat kek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84720" y="1341360"/>
            <a:ext cx="4248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e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59280" y="1700280"/>
            <a:ext cx="93636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987640" y="2637000"/>
            <a:ext cx="100800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84720" y="1341360"/>
            <a:ext cx="4535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ere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re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5229360"/>
            <a:ext cx="78850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Kerem iki ekmek a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6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1341360"/>
            <a:ext cx="3527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ı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5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ı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78200" y="1341360"/>
            <a:ext cx="3025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l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2708280"/>
            <a:ext cx="201600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76720" y="1484280"/>
            <a:ext cx="1224000" cy="7938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348000" y="2491920"/>
            <a:ext cx="1152720" cy="863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333360"/>
            <a:ext cx="2519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1341360"/>
            <a:ext cx="3887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lı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708280"/>
            <a:ext cx="2879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ı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5445000"/>
            <a:ext cx="8064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Kerem ılık    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4" dur="indefinite" restart="never" nodeType="tmRoot">
          <p:childTnLst>
            <p:seq>
              <p:cTn id="1965" dur="indefinite" nodeType="mainSeq">
                <p:childTnLst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05928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13200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333360"/>
            <a:ext cx="23749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m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1341360"/>
            <a:ext cx="4249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nd writing Mutlu"/>
              </a:rPr>
              <a:t>mı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2708280"/>
            <a:ext cx="2519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5157720"/>
            <a:ext cx="7200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Murat mırmır’ı a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400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78200" y="1341360"/>
            <a:ext cx="3241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ı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" y="2708280"/>
            <a:ext cx="1873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98100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40360" y="3330720"/>
            <a:ext cx="284328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y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0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y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84720" y="1341360"/>
            <a:ext cx="3024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Oy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5373720"/>
            <a:ext cx="7201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Oya et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84720" y="1341360"/>
            <a:ext cx="4248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y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2708280"/>
            <a:ext cx="2087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n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5300640"/>
            <a:ext cx="7200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Oya ayna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5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6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59280" y="1700280"/>
            <a:ext cx="93636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987640" y="2637000"/>
            <a:ext cx="100800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400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o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84720" y="1341360"/>
            <a:ext cx="4535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oly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5229360"/>
            <a:ext cx="78850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Oya iki kolye al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333360"/>
            <a:ext cx="2305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4720" y="1341360"/>
            <a:ext cx="3959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uy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0920" y="5373720"/>
            <a:ext cx="7920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Ali erken uyan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d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1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d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134136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E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5084640"/>
            <a:ext cx="7201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Ela       al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948360" y="692280"/>
            <a:ext cx="2165400" cy="345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1152360" cy="18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d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84720" y="1341360"/>
            <a:ext cx="3024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u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5373720"/>
            <a:ext cx="7201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Kaya dur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84720" y="1341360"/>
            <a:ext cx="4248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ed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2708280"/>
            <a:ext cx="2087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8360" y="5300640"/>
            <a:ext cx="7200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Kerem et yedi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547640" y="2708280"/>
            <a:ext cx="720720" cy="93672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4000" y="404640"/>
            <a:ext cx="2592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Hand writing Mutlu"/>
              </a:rPr>
              <a:t>don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72360" y="333360"/>
            <a:ext cx="2519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0" spc="-1" strike="noStrike">
                <a:solidFill>
                  <a:srgbClr val="000000"/>
                </a:solidFill>
                <a:latin typeface="Hand writing Mutlu"/>
              </a:rPr>
              <a:t>m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48000" y="404640"/>
            <a:ext cx="2448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Hand writing Mutlu"/>
              </a:rPr>
              <a:t>d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637000"/>
            <a:ext cx="71280" cy="93636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948000" y="2565360"/>
            <a:ext cx="360360" cy="93492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32000" y="3789360"/>
            <a:ext cx="720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Hand writing Mutlu"/>
              </a:rPr>
              <a:t>dondurm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0920" y="333360"/>
            <a:ext cx="2305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84720" y="1341360"/>
            <a:ext cx="3959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ed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0920" y="5373720"/>
            <a:ext cx="7920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Kedi et yedi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9" dur="indefinite" restart="never" nodeType="tmRoot">
          <p:childTnLst>
            <p:seq>
              <p:cTn id="2450" dur="indefinite" nodeType="mainSeq">
                <p:childTnLst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8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059280" y="1700280"/>
            <a:ext cx="936360" cy="649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987640" y="2637000"/>
            <a:ext cx="100800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333360"/>
            <a:ext cx="2592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84720" y="1341360"/>
            <a:ext cx="45352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ery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4000" y="2708280"/>
            <a:ext cx="2663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5516640"/>
            <a:ext cx="7885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Derya radyo dinledi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4" dur="indefinite" restart="never" nodeType="tmRoot">
          <p:childTnLst>
            <p:seq>
              <p:cTn id="2485" dur="indefinite" nodeType="mainSeq">
                <p:childTnLst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9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3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8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973080"/>
                <a:gridCol w="870120"/>
                <a:gridCol w="1042920"/>
                <a:gridCol w="1042920"/>
                <a:gridCol w="1042920"/>
                <a:gridCol w="1042920"/>
                <a:gridCol w="1043280"/>
                <a:gridCol w="1042920"/>
                <a:gridCol w="1042920"/>
              </a:tblGrid>
              <a:tr h="100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m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m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m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m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k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1306080"/>
                <a:gridCol w="1306080"/>
                <a:gridCol w="1306440"/>
                <a:gridCol w="1306080"/>
                <a:gridCol w="1306440"/>
                <a:gridCol w="1306080"/>
                <a:gridCol w="1306440"/>
              </a:tblGrid>
              <a:tr h="84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l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t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n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r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m</a:t>
                      </a: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y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a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i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u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  <a:ea typeface="Times New Roman"/>
                        </a:rPr>
                        <a:t>d</a:t>
                      </a:r>
                      <a:r>
                        <a:rPr b="0" lang="tr-TR" sz="4500" spc="-1" strike="noStrike">
                          <a:solidFill>
                            <a:srgbClr val="000000"/>
                          </a:solidFill>
                          <a:latin typeface="Hand writing Mutlu"/>
                        </a:rPr>
                        <a:t>ı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s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0" dur="indefinite" restart="never" nodeType="tmRoot">
          <p:childTnLst>
            <p:seq>
              <p:cTn id="2531" dur="indefinite" nodeType="mainSeq">
                <p:childTnLst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6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a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333360"/>
            <a:ext cx="1944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84720" y="1341360"/>
            <a:ext cx="280836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t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816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s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4720" y="1341360"/>
            <a:ext cx="3024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a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5280" y="270828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5373720"/>
            <a:ext cx="8280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Suna sal aldı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627280" y="2637000"/>
            <a:ext cx="1368360" cy="100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333360"/>
            <a:ext cx="216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84720" y="1341360"/>
            <a:ext cx="4248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es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2708280"/>
            <a:ext cx="2087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l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280" y="5300640"/>
            <a:ext cx="882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Kerem sesli okudu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0920" y="333360"/>
            <a:ext cx="2305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so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84720" y="1341360"/>
            <a:ext cx="431964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on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n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5373720"/>
            <a:ext cx="8964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Soner ile Esma, dinled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3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627280" y="1484280"/>
            <a:ext cx="1368360" cy="86508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916360" y="2637000"/>
            <a:ext cx="1079280" cy="792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0920" y="333360"/>
            <a:ext cx="252072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su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1341360"/>
            <a:ext cx="46800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Sult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0920" y="2708280"/>
            <a:ext cx="26654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t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0360" y="5373720"/>
            <a:ext cx="82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Sultan onu dinled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1" dur="indefinite" restart="never" nodeType="tmRoot">
          <p:childTnLst>
            <p:seq>
              <p:cTn id="2702" dur="indefinite" nodeType="mainSeq">
                <p:childTnLst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8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800" spc="-1" strike="noStrike">
                <a:solidFill>
                  <a:srgbClr val="000000"/>
                </a:solidFill>
                <a:latin typeface="Hand writing Mutlu"/>
              </a:rPr>
              <a:t>ö</a:t>
            </a:r>
            <a:endParaRPr b="0" lang="en-US" sz="3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1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78200" y="1341360"/>
            <a:ext cx="208908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4360" y="270828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5157720"/>
            <a:ext cx="8280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nd writing Mutlu"/>
              </a:rPr>
              <a:t>Emel un a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4360" y="333360"/>
            <a:ext cx="15112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78200" y="1341360"/>
            <a:ext cx="3025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" y="2708280"/>
            <a:ext cx="201600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8" dur="indefinite" restart="never" nodeType="tmRoot">
          <p:childTnLst>
            <p:seq>
              <p:cTn id="2779" dur="indefinite" nodeType="mainSeq">
                <p:childTnLst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276720" y="1484280"/>
            <a:ext cx="1224000" cy="7938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348000" y="2491920"/>
            <a:ext cx="1152720" cy="863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189000"/>
            <a:ext cx="2519280" cy="230328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907920"/>
            <a:ext cx="4105080" cy="24498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nd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2708280"/>
            <a:ext cx="2879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d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5445000"/>
            <a:ext cx="8064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and writing Mutlu"/>
              </a:rPr>
              <a:t>Önder kek yedi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7" dur="indefinite" restart="never" nodeType="tmRoot">
          <p:childTnLst>
            <p:seq>
              <p:cTn id="2808" dur="indefinite" nodeType="mainSeq">
                <p:childTnLst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9" dur="1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0" dur="4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4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05928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13200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8360" y="189000"/>
            <a:ext cx="2374920" cy="2232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3280" y="1341360"/>
            <a:ext cx="4249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nd writing Mutlu"/>
              </a:rPr>
              <a:t>Öm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5280" y="2708280"/>
            <a:ext cx="280836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me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58920" y="5157720"/>
            <a:ext cx="72007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Ömer döner aldı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4" dur="indefinite" restart="never" nodeType="tmRoot">
          <p:childTnLst>
            <p:seq>
              <p:cTn id="2845" dur="indefinite" nodeType="mainSeq">
                <p:childTnLst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95640" y="1197000"/>
            <a:ext cx="1439640" cy="107964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268360" y="2349360"/>
            <a:ext cx="1366920" cy="648000"/>
          </a:xfrm>
          <a:prstGeom prst="line">
            <a:avLst/>
          </a:prstGeom>
          <a:ln w="101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333360"/>
            <a:ext cx="187164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0" spc="-1" strike="noStrike">
                <a:solidFill>
                  <a:srgbClr val="000000"/>
                </a:solidFill>
                <a:latin typeface="Hand writing Mutlu"/>
              </a:rPr>
              <a:t>k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78200" y="1341360"/>
            <a:ext cx="3241800" cy="201636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kö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5280" y="2708280"/>
            <a:ext cx="1873080" cy="2016000"/>
          </a:xfrm>
          <a:prstGeom prst="rect">
            <a:avLst/>
          </a:prstGeom>
          <a:noFill/>
          <a:ln cap="rnd" w="63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Hand writing Mutlu"/>
              </a:rPr>
              <a:t>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5445000"/>
            <a:ext cx="842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Hand writing Mutlu"/>
              </a:rPr>
              <a:t>Ömer ile Önder köyde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0" dur="indefinite" restart="never" nodeType="tmRoot">
          <p:childTnLst>
            <p:seq>
              <p:cTn id="2881" dur="indefinite" nodeType="mainSeq">
                <p:childTnLst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02:22Z</dcterms:created>
  <dc:creator>mehmet kemal</dc:creator>
  <dc:description/>
  <dc:language>en-US</dc:language>
  <cp:lastModifiedBy>cakraz ilkogretim</cp:lastModifiedBy>
  <dcterms:modified xsi:type="dcterms:W3CDTF">2007-01-13T12:56:56Z</dcterms:modified>
  <cp:revision>22</cp:revision>
  <dc:subject/>
  <dc:title>Slayt 1</dc:title>
</cp:coreProperties>
</file>