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716-679D-44DB-B2D0-319B5904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603-6526-4D98-9D6D-1C41C5BB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A4C-9CA0-4398-828A-8FFBC05C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D93-24D5-4BB7-B2EE-90A4D6E2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ABD-F3A4-42E3-8B66-1A82CB0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4DF-F0CE-4416-B6F3-5ADFB59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DB8-4A87-4E97-90FF-BF44BEC7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DC1-AE0C-4374-952E-F2F2342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7B5-F424-4A49-AA46-1373B07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84C-1B6B-4870-A9FE-EBFA1EF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622-ED38-4A7C-B234-C5BCE97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273-F0BF-4563-B0D9-834684B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697F-41A5-4D2B-A921-86AEC6D2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CAELİ GEBZE BALÇIK İLKÖĞRETİM OKUL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İTEP EĞİTİMİ PROJES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zırlayan:Esma A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ynak:Mark L.BR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03.12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ONLARA TERCİH YAPMA ŞANSI VERİ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l,oyun hamuruyla ya da yapbozlarla oynayabilirsin.Tercihini sen yap.’’(Eğer çocuk ağlamayı tercih etmişse onun bu seçimini de kabullenin ve saygı duyu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ış elindeki oyuncağı ister masaya ister sandalyeye bırakabilirsin.Hangisini yapacağına sen karar ver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ih yapabilirsin’’ mesajını çocuğa iletmekt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6372360" cy="378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3.Hayır kelimesi yerine Eveti kullanı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t Sibel,parka daha sonra gidebiliriz.Şimdi hava çok soğuk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t Mert,sonra biraz daha şeker alabiliriz.Ama şimdi olmaz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un isteğine saygı gösterdiğinizi ve onu yerine getirmeyi istediğinizi göster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6516720" cy="371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Sonuçları onun da görmesini ve anlamasını sağlayı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 Ahmet dışarının ne kadar soğuk olduğunu hissediyor musun?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k Arzu,makasın ne kadar keskin olduğunu görüyor musun?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ümkün olduğu sürece bir şeyin niçin yapılamayacağını somut örneklerle ona göstermek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6300720" cy="371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GERÇEKTE SAHİP OLAMAYACAKLARI ŞEYLERİ ONLARA HAYAL YOLUYLA TATTIR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ça,kocaman bir havuzda yüzmeye gitmemizi isterdin değil mi?Bu bence de çok eğlenceli olurdu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,şimdi seninle oynamamı isterdin değil mi?Bu bence de çok eğlenceli olurdu ama benim biraz işim v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ocuğunuzun isteklerini kabullendiğinizi,onu anladığınızı ve ona olan saygınızı göstermek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3645000"/>
            <a:ext cx="6400800" cy="3213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AÇIKLAMADA BULUN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la,sana yardım etmeyi isterdim ama önce bir telefon görüşmesi yapmam gerekiyor.Beni anlayacağını biliyorum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ır demeksizin çocuğun kendi kendine sonuçlar çıkarmasını s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5651640" cy="3573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45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YIR DEMEK HERŞEYİ ÇÖZERMİ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KENDİNİZE DÜŞÜNMEK İÇİN ZAMAN TANIY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t Arda iyi fikir ama bunu bugün biraz düşünmek istiyorum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t Melek,bu konuyu akşam babanla da konuşmak istiyorum.Bu konuyu biraz düşünmem gerek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a hemen hayır demek yerine onun isteklerini değerlendireceğinizi gösterir.Ayrıca bu tutumumuz,çocuğa ümit ve hayal kırıklığı kavramlarını da öğre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4500720" cy="3789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UTMAY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32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OCUK DOĞRU ŞEKİLDE HİSSEDERSE DOĞRU ŞEKİLDE DAVRA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OCUĞUNUZUN BİR YANLIŞ DAVRANIŞINI NE KADAR ÇABUK DURDURABİLDİĞİNİZ DEĞİL,ONUN NE KADAR ÇABUK DÜŞÜNMESİNİ SAĞLAYABİLDİĞİNİZ ÖNEMLİDİ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ĞRU MESAJ,DOĞRU DAVRANIŞ GELİŞTİRİ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35280" y="2529000"/>
            <a:ext cx="5508720" cy="43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 BABANIN KENDİNİ KONTROL EDEBİLDİĞİNİ GÖREN ÇOCUKDA AYNI DAVRANIŞI HIZLA ÖĞRENİ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2276640"/>
            <a:ext cx="6400800" cy="4581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5075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OCUĞA GÜVENMEK ONUN VİCDANININ OLUŞMASINI SAĞLAR.YARGILANMADIĞINI HİSSEDEN BİR ÇOCUK GÜVENMEYİ ÖĞRENİ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11640" y="2421000"/>
            <a:ext cx="493236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ĞRU DAVRANIŞIN NEYE BENZEDİĞİ VE NASIL OLDUĞUNU ÖĞRENMESİNDE ÇOCUĞUNUZA ÖRNEK OLUN.SAMİMİ,GÜVENİLİR VE SAYGILI OL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6516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LİKEYİ ÖĞRENMEK,KORKUNUN ANLAYIŞA DÖNÜŞMESİNE OLANAK TA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753080" cy="486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İÇİN BU KADAR ÇABUK HAYIR DERİ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Çok az şey sadece bir dakika içerisinde halledilir.Uygun bir şekilde hayır demekse zaman alan iş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ır kelimesi ve güven duygusu arasında doğrudan bir ilişki var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zı ebeveynler hayır kelimesini benzer sebeplerle pek de düşünmeksizin bir refleks olarak söy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İŞİTTİĞİMİZDE UNUTURUZ,GÖRDÜĞÜMÜZDE HATIRLARIZ,YAPTIĞIMIZDA İSE ANLA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5292720" cy="5084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İNLEDİĞİNİZ İÇİN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ŞEKKÜR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Anne babalar yorgun olduklarında çocuğun sorularını ve merakını ihmal ederl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Anne ve babaların çocuğu anlamak için fazla sabrı yokt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 tepkilerimizin altında yatan neden anne ve babalarımızın bize bu şekilde davranmış olmalarıd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8712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YIR DEMENİN FARKLI BİR Y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ÇOCUĞUN DUYGULARINI TASDİK EDİ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Parktan ayrılmak zorunda olduğumuz için Nihal çok üzgünsün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‘‘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elenay bu yapbozu tamamlayamadığın için üzgünsün.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LARI SÖYLEME AMACIM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Çocuğun duygularını ifade etmesine izin vermek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6588000" cy="400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04:43Z</dcterms:created>
  <dc:creator>Casper</dc:creator>
  <dc:description/>
  <dc:language>en-US</dc:language>
  <cp:lastModifiedBy>Casper</cp:lastModifiedBy>
  <dcterms:modified xsi:type="dcterms:W3CDTF">2010-01-14T20:19:30Z</dcterms:modified>
  <cp:revision>13</cp:revision>
  <dc:subject/>
  <dc:title>HAYIR DEMEK HERŞEYİ ÇÖZERMİ?</dc:title>
</cp:coreProperties>
</file>