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6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9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8.jpeg" ContentType="image/jpeg"/>
  <Override PartName="/ppt/media/image20.png" ContentType="image/png"/>
  <Override PartName="/ppt/media/image15.jpeg" ContentType="image/jpeg"/>
  <Override PartName="/ppt/media/image14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  <p:custShowLst>
    <p:custShow name="Custom Show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BCD1-5FA6-477F-B23E-9B9D6B8269D6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F1D-5257-4CBE-8D3C-06330FFF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B719-7062-4545-965A-5A7AB1B9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140-7A84-4CBC-A84D-7E8E5CF6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30B6-E920-4AFF-8F3F-3FD400707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9100-3851-4C89-8C3E-6F947C635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96A1-7F33-4474-8BAC-3358A299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7CE3-DF41-4D6E-8694-DAB4E825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413B-7679-46D4-9916-71AFF764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06A5-85DB-444F-8E0A-02EB2F45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C00D-5BDE-4CF1-AA30-526D04C9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72D5-8C4F-4E4F-A5E6-172E18E8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D7BC-9E84-4E96-8A2A-D33E1C5D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C1BA-1FED-4ED3-B62B-0223A14A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5831-32B4-40BE-BF2B-2286BFBA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78A7-49B3-4A02-BE86-FA47C2E6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4210-E837-45B1-8B21-F26A327A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A5B8-C023-4F27-9F58-356FD9097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4CD0-A5B2-44E8-8C17-A7631760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4D0D-3A95-4626-BFD2-77483F74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15E2-F617-4CA3-B269-22AFC5C7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E7C-F029-42C3-8D02-2574A4D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3D8-964E-4569-B9C8-4E392B20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8F73-7CD4-4072-9D92-78C1FF55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763C-477C-4FDB-86EB-B2BC22BB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C1C1-70DD-4066-9A96-A4857282B3E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0159-61A4-46E9-B175-DBDD7A3BF34D}" type="slidenum">
              <a:rPr b="0" lang="tr-T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4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video" Target="file:///tmp/home/.config/libreoffice/4/user/gallery/22" TargetMode="External"/><Relationship Id="rId3" Type="http://schemas.microsoft.com/office/2007/relationships/media" Target="file:///tmp/home/.config/libreoffice/4/user/gallery/22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7.png"/><Relationship Id="rId7" Type="http://schemas.openxmlformats.org/officeDocument/2006/relationships/image" Target="../media/image8.png"/><Relationship Id="rId8" Type="http://schemas.openxmlformats.org/officeDocument/2006/relationships/image" Target="../media/image27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video" Target="file:///tmp/home/.config/libreoffice/4/user/gallery/1k" TargetMode="External"/><Relationship Id="rId3" Type="http://schemas.microsoft.com/office/2007/relationships/media" Target="file:///tmp/home/.config/libreoffice/4/user/gallery/1k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video" Target="file:///tmp/home/.config/libreoffice/4/user/gallery/1l" TargetMode="External"/><Relationship Id="rId3" Type="http://schemas.microsoft.com/office/2007/relationships/media" Target="file:///tmp/home/.config/libreoffice/4/user/gallery/1l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video" Target="file:///tmp/home/.config/libreoffice/4/user/gallery/1m" TargetMode="External"/><Relationship Id="rId3" Type="http://schemas.microsoft.com/office/2007/relationships/media" Target="file:///tmp/home/.config/libreoffice/4/user/gallery/1m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r.wikipedia.org/wiki/Resim:Map_1914_WWI_Alliances.jpg" TargetMode="External"/><Relationship Id="rId2" Type="http://schemas.openxmlformats.org/officeDocument/2006/relationships/image" Target="../media/image13.jpeg"/><Relationship Id="rId3" Type="http://schemas.openxmlformats.org/officeDocument/2006/relationships/video" Target="file:///tmp/home/.config/libreoffice/4/user/gallery/1n" TargetMode="External"/><Relationship Id="rId4" Type="http://schemas.microsoft.com/office/2007/relationships/media" Target="file:///tmp/home/.config/libreoffice/4/user/gallery/1n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video" Target="file:///tmp/home/.config/libreoffice/4/user/gallery/1o" TargetMode="External"/><Relationship Id="rId3" Type="http://schemas.microsoft.com/office/2007/relationships/media" Target="file:///tmp/home/.config/libreoffice/4/user/gallery/1o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video" Target="file:///tmp/home/.config/libreoffice/4/user/gallery/2" TargetMode="External"/><Relationship Id="rId3" Type="http://schemas.microsoft.com/office/2007/relationships/media" Target="file:///tmp/home/.config/libreoffice/4/user/gallery/2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24000" y="45086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ffff00"/>
                </a:solidFill>
                <a:latin typeface="Hand writing Mutlu"/>
              </a:rPr>
              <a:t>23 Nisan Ulu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4000" spc="-1" strike="noStrike">
                <a:solidFill>
                  <a:srgbClr val="ffff00"/>
                </a:solidFill>
                <a:latin typeface="Hand writing Mutlu"/>
              </a:rPr>
              <a:t> </a:t>
            </a:r>
            <a:r>
              <a:rPr b="1" i="1" lang="tr-TR" sz="4000" spc="-1" strike="noStrike">
                <a:solidFill>
                  <a:srgbClr val="ffff00"/>
                </a:solidFill>
                <a:latin typeface="Hand writing Mutlu"/>
              </a:rPr>
              <a:t>Egemenlik ve Çocuk Bayramı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Resmin büyük versiyonu için tıklayın"/>
          <p:cNvPicPr/>
          <p:nvPr/>
        </p:nvPicPr>
        <p:blipFill>
          <a:blip r:embed="rId1"/>
          <a:stretch/>
        </p:blipFill>
        <p:spPr>
          <a:xfrm>
            <a:off x="1258920" y="333360"/>
            <a:ext cx="6667560" cy="2124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956720" y="2421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140360" y="2924280"/>
            <a:ext cx="952200" cy="1268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000"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37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619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Hand writing Mutlu"/>
              </a:rPr>
              <a:t>Ulusal Kurtuluş Savaşımızla ilgili bütün kararlar bu mecliste alındı. Mustafa Kemal Paşa'nın önderliğinde ulusumuz dünyaya Ulusal Kurtuluş Savaşı dersi verd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697800" cy="40766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wheel spokes="1"/>
  </p:transition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981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Hand writing Mutlu"/>
              </a:rPr>
              <a:t>23 Nisan 1920 ilk Büyük Millet Meclisi'mizin toplandığı gündür. 23 Nisan, ulusun yönetme yetkisini kullanmaya başladığı gündür. Bu gün Milli Egemenlik Bayramı'mızdı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417080" cy="4292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zoom dir="in"/>
  </p:transition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5047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83528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000" spc="-1" strike="noStrike">
                <a:solidFill>
                  <a:srgbClr val="000000"/>
                </a:solidFill>
                <a:latin typeface="Hand writing Mutlu"/>
              </a:rPr>
              <a:t>23 Nisan dünyada kutlanan ilk çocuk bayramıdır. Atatürk'ün Türk çocuklarına armağan ettiği bu bayram her yıl dünya cocuklarıyla birlikte kutlanı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23 NİSAN ŞENLİKLERİ KOKURDAN MAHALLESİ"/>
          <p:cNvPicPr/>
          <p:nvPr/>
        </p:nvPicPr>
        <p:blipFill>
          <a:blip r:embed="rId2"/>
          <a:stretch/>
        </p:blipFill>
        <p:spPr>
          <a:xfrm>
            <a:off x="4716360" y="260280"/>
            <a:ext cx="2519640" cy="1889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23 NİSAN ŞENLİKLERİ KIRIMSA MAHALLESİ"/>
          <p:cNvPicPr/>
          <p:nvPr/>
        </p:nvPicPr>
        <p:blipFill>
          <a:blip r:embed="rId3"/>
          <a:stretch/>
        </p:blipFill>
        <p:spPr>
          <a:xfrm>
            <a:off x="1403280" y="260280"/>
            <a:ext cx="2519280" cy="1873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23 NİSAN ŞENLİKLERİ KIRIMSA MAHALLESİ"/>
          <p:cNvPicPr/>
          <p:nvPr/>
        </p:nvPicPr>
        <p:blipFill>
          <a:blip r:embed="rId4"/>
          <a:stretch/>
        </p:blipFill>
        <p:spPr>
          <a:xfrm>
            <a:off x="4788000" y="2421000"/>
            <a:ext cx="2519280" cy="18730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1332000" y="2421000"/>
            <a:ext cx="2520720" cy="18763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zoom dir="in"/>
  </p:transition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1355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979640" y="4365360"/>
            <a:ext cx="64008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000" spc="-1" strike="noStrike">
                <a:solidFill>
                  <a:srgbClr val="ffffff"/>
                </a:solidFill>
                <a:latin typeface="Hand writing Mutlu"/>
              </a:rPr>
              <a:t>Atatürk çocuklara çok değer verir, gezilerinde okullara uğrar, ders dinler, sorular sorardı. “Bugünün küçükleri yarının büyükleridir”»demişti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7488360" cy="4437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dissolve/>
  </p:transition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146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08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000" spc="-1" strike="noStrike">
                <a:solidFill>
                  <a:srgbClr val="ffffff"/>
                </a:solidFill>
                <a:latin typeface="Hand writing Mutlu"/>
              </a:rPr>
              <a:t>23 Nisan Ulusal Egemenlik Bayramı egemenliğin ulusta olduğu düşüncesinin kabul edildiği gündür. Çocuk bayramımızdır. Yarının büyükleri olan çocukların bayramıdı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4824720" cy="361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0000">
    <p:fade thruBlk="true"/>
  </p:transition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1355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-360" y="4076280"/>
            <a:ext cx="889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ffffff"/>
                </a:solidFill>
                <a:latin typeface="Hand writing Mutlu"/>
              </a:rPr>
              <a:t>BAYRAMIMIZ KUTLU OLS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676520" cy="12477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2268360" y="189000"/>
            <a:ext cx="1676520" cy="1247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500720" y="260280"/>
            <a:ext cx="1676160" cy="12477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659640" y="189000"/>
            <a:ext cx="1676160" cy="1247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23 Nisan"/>
          <p:cNvPicPr/>
          <p:nvPr/>
        </p:nvPicPr>
        <p:blipFill>
          <a:blip r:embed="rId5"/>
          <a:stretch/>
        </p:blipFill>
        <p:spPr>
          <a:xfrm>
            <a:off x="3564000" y="5281560"/>
            <a:ext cx="2087640" cy="1576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6804000" y="2276640"/>
            <a:ext cx="1676520" cy="12477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250920" y="2276640"/>
            <a:ext cx="1676160" cy="12477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400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ut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8126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344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Hand writing Mutlu"/>
              </a:rPr>
              <a:t>Egemenlik,kayıtsız şartsız milletindi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Hand writing Mutlu"/>
              </a:rPr>
              <a:t>Mustafa Kemal ATATÜ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005_01"/>
          <p:cNvPicPr/>
          <p:nvPr/>
        </p:nvPicPr>
        <p:blipFill>
          <a:blip r:embed="rId1"/>
          <a:stretch/>
        </p:blipFill>
        <p:spPr>
          <a:xfrm>
            <a:off x="2627280" y="0"/>
            <a:ext cx="3943440" cy="4286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zoom dir="in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600" spc="-1" strike="noStrike">
                <a:solidFill>
                  <a:srgbClr val="ffffff"/>
                </a:solidFill>
                <a:latin typeface="Hand writing Mutlu"/>
              </a:rPr>
              <a:t>23 Nisan 1920 Büyük Millet Meclisi'nin açılış günüdür</a:t>
            </a:r>
            <a:r>
              <a:rPr b="1" i="1" lang="tr-TR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3889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896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476360" y="3499920"/>
            <a:ext cx="6400800" cy="20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Hand writing Mutlu"/>
              </a:rPr>
              <a:t>Egemenlik yönetme yetkisidir. Ulusal egemenlik; yönetme yetkisinin ulusta olmasıdır. Osmanlı imparatorluğu döneminde egemenlik padişahta idi. Padişah ülkeyi dilediği gibi yönetirdi. İmparatorluğun son yıllarında padişahlar rahatlarını düşündüler. Yurt bakımsız kaldı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132000" y="-316080"/>
            <a:ext cx="3076560" cy="37148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2000">
    <p:checker dir="horz"/>
  </p:transition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3615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Hand writing Mutlu"/>
              </a:rPr>
              <a:t>Ülke sorunları yüzüstü bırakıldı. Bu sırada Birinci Dünya Savaşı başladı. Savaş 4 yıl sürdü. Bizimle birlikte olanlar savaşta yenildi. Savaş kurallarına göre biz de yenilmiş sayıldı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European military alliances in 1915. The Central Powers are depicted in red, the Entente Powers in green and neutral countries in yellow. Note: The borders shown on the Balkans are incorrect. The borders shown here are the situation in 1911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260280"/>
            <a:ext cx="6480360" cy="4032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" action="ppaction://media"/>
          </p:cNvPr>
          <p:cNvPicPr/>
          <p:nvPr>
            <a:vide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heel spokes="8"/>
  </p:transition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428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0509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Hand writing Mutlu"/>
              </a:rPr>
              <a:t>Yurdumuz İngilizler, Fransızlar, Yunanlılar, İtalyanlar tarafından paylaşıldı. Padişah ve yandaşları ülkenin paylaştırılmasına ses çıkarmadılar</a:t>
            </a:r>
            <a:r>
              <a:rPr b="0" lang="tr-TR" sz="3200" spc="-1" strike="noStrike">
                <a:solidFill>
                  <a:srgbClr val="ffffff"/>
                </a:solidFill>
                <a:latin typeface="Hand writing Mutlu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Sevr Haritası"/>
          <p:cNvPicPr/>
          <p:nvPr/>
        </p:nvPicPr>
        <p:blipFill>
          <a:blip r:embed="rId1"/>
          <a:stretch/>
        </p:blipFill>
        <p:spPr>
          <a:xfrm>
            <a:off x="324000" y="333360"/>
            <a:ext cx="8064360" cy="31924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9000">
    <p:cover dir="ru"/>
  </p:transition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0519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908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Hand writing Mutlu"/>
              </a:rPr>
              <a:t>Mustafa Kemal Paşa Ulusal Kurtuluş Savaşı'nı başlatmak için İstanbul’dan Samsun'a geldi. Samsun'dan Amasya'ya, oradan Erzurum'a ve Sivas’a gitti. Sivas ve Erzurum'da kongreler topladı</a:t>
            </a:r>
            <a:r>
              <a:rPr b="0" lang="tr-TR" sz="2800" spc="-1" strike="noStrike">
                <a:solidFill>
                  <a:srgbClr val="ffffff"/>
                </a:solidFill>
                <a:latin typeface="Hand writing Mutlu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024_02"/>
          <p:cNvPicPr/>
          <p:nvPr/>
        </p:nvPicPr>
        <p:blipFill>
          <a:blip r:embed="rId1"/>
          <a:stretch/>
        </p:blipFill>
        <p:spPr>
          <a:xfrm>
            <a:off x="1258920" y="260280"/>
            <a:ext cx="6626160" cy="39607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wedge/>
  </p:transition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4698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48436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Hand writing Mutlu"/>
              </a:rPr>
              <a:t>Mustafa Kemal Paşa egemenliğin ulusta olduğuna inanıyordu. Bu inançla “Ulusu yine ulusun gücü kurtaracaktır. Tek bir egemenlik vardır, o da ulusal egemenliktir»” diyordu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5112000" cy="37162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3723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835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3200" spc="-1" strike="noStrike">
                <a:solidFill>
                  <a:srgbClr val="ffffff"/>
                </a:solidFill>
                <a:latin typeface="Hand writing Mutlu"/>
              </a:rPr>
              <a:t>Yurdun dört bir yanından seçilip gelen temsilciler - milletvekilleri - Ankara'da 23 Nisan 1920 günü toplandıl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7129440" cy="3384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6583320"/>
            <a:ext cx="22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Hand writing Mutlu"/>
              </a:rPr>
              <a:t>Buse Ece BURGA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split dir="out" orient="vert"/>
  </p:transition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474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6:08:36Z</dcterms:created>
  <dc:creator>METIN BURGAZ</dc:creator>
  <dc:description/>
  <dc:language>en-US</dc:language>
  <cp:lastModifiedBy>METIN BURGAZ</cp:lastModifiedBy>
  <dcterms:modified xsi:type="dcterms:W3CDTF">2006-04-19T18:45:07Z</dcterms:modified>
  <cp:revision>21</cp:revision>
  <dc:subject/>
  <dc:title>Slide 1</dc:title>
</cp:coreProperties>
</file>